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0ED-15F9-40A2-9795-072F26C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E12-5660-457D-85CD-5E31CE85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609-57BF-471B-A8CE-1A1C696E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A9A-5818-415F-8816-2A72B950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C7B-EEF5-4995-883A-3E20A5D7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DA0-8BE7-4453-8BFF-4F5AB2BF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E3A-4E52-40C9-8C08-0CF782A8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757-F51E-4B3D-9A54-4F0D25C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E49-57F3-4A19-8BC2-6628A9E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10C-C70E-48DC-8661-67A5F03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FDB-BF60-4D59-98BF-B750E11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401-841B-4DF9-BE38-52FC2B3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F4C-4320-432A-B309-4CFAD646CD82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30492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ypes of Practi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371600"/>
            <a:ext cx="74358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After the learner has attempted the skill after being instructed (presentation of practice) they now need to spend time developing and refining the movement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coach or teacher has to decide the best type of practice to use to ens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earning actuall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Motivation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atigue does not limit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variable factors are the periods of active work and recovery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63640" y="457200"/>
            <a:ext cx="68468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assed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006560" y="1413000"/>
            <a:ext cx="8137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mic Sans MS"/>
              </a:rPr>
              <a:t>Involves repeated practice of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mic Sans MS"/>
              </a:rPr>
              <a:t>Little or no recovery periods between blocks of t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590920"/>
            <a:ext cx="7210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kills are discrete or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is well mo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is experi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has a high level of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Must be careful to avoid boredom, fatigue and over-training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380880"/>
            <a:ext cx="71341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Distributed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1371600"/>
            <a:ext cx="795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volves repeated practice of skills with a recovery period before repetition of skill or development of a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ecovery period may involve some form of activity or mental rehearsal, feedback, or simply time to refocus and motivate per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232080"/>
            <a:ext cx="758340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kills are new and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petition of gross skills / physically deman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ow levels of motivation / f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former has short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covery period is needed for feedback /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Must be careful to avoid de-motivation, loss of concentration, ill-discipline within group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835280" y="692280"/>
            <a:ext cx="6699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Variable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2895480"/>
            <a:ext cx="6613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volves coach using a mixture of both massed and distributed practice within on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his will help to maintain the interest and motivation  levels of the performer and limits the effects of 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63640" y="189000"/>
            <a:ext cx="68342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ental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1125360"/>
            <a:ext cx="736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Involves the cognitive rehearsal of a skill without physical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articularly useful as it may be used before, during and after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The performer attempts to create a picture in their mind of themselves carrying out the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Also referred to as ‘mental rehearsal’ or ‘imager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Two ways they can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4292640"/>
            <a:ext cx="388944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from within completing the action or in the situation and consequently creating a kinaesthetic feel of the actual mov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4221000"/>
            <a:ext cx="3627720" cy="271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as if they were a spectator or on film. They actually imagine watching themselves performing the ski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1:01:50Z</dcterms:created>
  <dc:creator>Marcellin College</dc:creator>
  <dc:description/>
  <dc:language>en-US</dc:language>
  <cp:lastModifiedBy>sullivang</cp:lastModifiedBy>
  <dcterms:modified xsi:type="dcterms:W3CDTF">2011-05-21T23:55:23Z</dcterms:modified>
  <cp:revision>2</cp:revision>
  <dc:subject/>
  <dc:title>Slide 1</dc:title>
</cp:coreProperties>
</file>